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BD12-FF81-4E37-BC7D-034A398E36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C673-6E21-470F-8F16-565B0011EB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088-EB51-4FCC-A3AA-239F115C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BFCA-C695-4793-85B9-376FA03A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1E67-EA3F-4EB6-920A-4C7AA10D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0DF-D7ED-4DF9-92A8-C66AD16D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8131-0321-44A6-91C2-3EF6146C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58F4-4E22-46C1-8E4B-F3AFA261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D03F-7114-4ECB-A080-0A06EBE7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8352-36F4-4690-A3B5-5356EFB4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82F7-FCC4-4924-A110-B05CB766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4E7C-C714-44B9-985B-5425D27D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7F2E-426F-4EA3-BCAB-3D691A1A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C7B4-A89A-41E5-9D14-92CE423D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715C-D0CA-4EC6-84B1-8FA2257A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2E05-F870-48E2-B819-4998E16D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5A19-9A0D-462E-A015-B815894A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5457-D4E4-431C-AAA8-F5FBBF5E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2220-56D8-4DA5-B2ED-251BDE29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C41A-14D1-4F17-8062-E111A232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6E01-1977-41CF-9800-B52AC046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D1B-D360-4DAB-B4C1-AE6B64A3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45C-9655-4EB9-A52C-237EF0FD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C84-A9C3-4D31-A53B-B9F34054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6DE-B1FA-46C0-81ED-8D5F2719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8306-1B56-4636-A0FF-81D4C81E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99EA-7C7C-4A96-9A41-01EB172C6E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6282-68CF-4C3C-84E3-E1F8AE3B0E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63640" y="476280"/>
            <a:ext cx="214164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Pa rif?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67816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wy’n meddwl am rif pedwar dig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28760" y="2143080"/>
            <a:ext cx="820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Mae’r digid cyntaf yn un traean o’r trydydd digi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28760" y="2571840"/>
            <a:ext cx="820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030a0"/>
                </a:solidFill>
                <a:latin typeface="Comic Sans MS"/>
              </a:rPr>
              <a:t>Mae’r pedwerydd digid ddwbl yr ail ddigi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28760" y="3071880"/>
            <a:ext cx="82072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b050"/>
                </a:solidFill>
                <a:latin typeface="Comic Sans MS"/>
              </a:rPr>
              <a:t>Mae adio’r digid cyntaf a’r trydydd digid yn ddwbl yr ateb y cewch wrth adio yr aiLddigid a’r pedwerydd digi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28760" y="4714920"/>
            <a:ext cx="678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th yw’r rhif pedwar dig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6357960" y="4286160"/>
            <a:ext cx="162864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7500960" y="428760"/>
            <a:ext cx="98892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18:16:36Z</dcterms:created>
  <dc:creator>Carwyn</dc:creator>
  <dc:description/>
  <dc:language>en-US</dc:language>
  <cp:lastModifiedBy>Carwyn</cp:lastModifiedBy>
  <dcterms:modified xsi:type="dcterms:W3CDTF">2009-11-29T14:33:33Z</dcterms:modified>
  <cp:revision>6</cp:revision>
  <dc:subject/>
  <dc:title>Y tri olaf</dc:title>
</cp:coreProperties>
</file>